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5F98-C57F-4BE4-824E-44F40D58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8B8-F41A-4FCC-98AA-9A69231D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BFCB-A785-423F-A0F3-D601BE9C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9B04-EFEB-40E9-A60A-F9A78FBD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6B44-0D6B-4FAA-AFFD-E286749F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5B2D-1A0D-40F0-BE30-D63E63A9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B4C6-1C58-4704-9BB3-5DD20282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92F2-5EAB-4D49-AE6F-EF8F4882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595A-03E8-44BB-B8C3-27404A7B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2323-53CD-4DFF-819C-C7A3E3DB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F04D-615C-438E-A977-25C1BA4E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1C2-284A-43CE-A546-DD92C226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1869-2F5F-4B80-B8E1-4D47F0BC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BBFF-43E6-4D6E-B8C9-5CAA589D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CCF8-BE96-447B-83CE-C57ECEF0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BB7C-9B07-47C1-97EF-60AE6EAD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44B6-1F52-4076-9446-41AF2064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FA841-932A-48A6-BAB9-E598A731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E9B30-7FC2-4B5C-AB39-37363636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810B8-B761-40BC-8C5E-8358E067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75A4-7A47-4216-8764-DA900A64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C7FE3-42FE-49B6-916D-2C506845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D4A-F730-434B-BCC9-187E6B5F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5CE9D-B74A-42CC-A96F-28EAC1AA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B0899-57A1-4FC6-98AB-76B517C7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013DE-EC9F-4D5B-893A-B34D45C6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E4A3F-116E-4815-8AE3-3E22BE45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22D3D-D015-4C88-9204-B31B9A8B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E7667-5CE8-4C49-8C19-7EEC017C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CA3CE-5055-4825-8355-FE33C86F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D3D18-2729-4A35-B16B-354E36AC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EFC25-9353-4820-A5BB-791ABFCB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29109-A2C3-46B2-9D57-6F7F1835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9E6-2FDA-4AB9-A200-779B37F0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59110-B070-437E-A9BD-99681F18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F85C2-08DC-4802-A5ED-FAD03A01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25D85-5CF0-4CBA-981F-A2328E18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92913-5923-43A1-8470-73EEEDDA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5AE05-6094-4E17-A666-169493D8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4A6E5-83C9-4B06-B182-6A92B86C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6CD48-D89C-46B9-A369-9A2135A8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E145A-0AFE-415B-82F3-491BC5B5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0B60F-B96B-4355-A0B2-C6F0CF86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DEF44-60A4-4997-8D4B-D184584D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A60-14C1-4794-8425-205929D0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838F9-A24C-4F60-8075-DCFC76C9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DE10A-D2DE-4EE1-9AFE-CB3EE252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771B7-EEE7-4D2C-8E65-00441304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E295F-16B5-43E5-A39C-147A87B7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105A3-DF67-4BCD-B159-6B62C4FC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1FBB3-972F-4681-87AA-A30062C5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C9547-EC34-4C44-B440-870BF82F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9B1BB-F30B-4EAA-A333-115D7325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05B74-20F4-4DDA-9C6D-95E87215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35679-D303-4BF3-BB89-06595836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C964-5E2A-4B8E-A9DC-B7C5E8F1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D2349-B0DB-4E4F-AAE1-A405B63B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EE4A8-B5F9-4CD1-A934-325BEC59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119C8-A27E-4246-B2AF-EC06633E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A31D8-DF08-421D-81D7-F410109D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34CA5-FF72-4EC3-9901-9BA13E3F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C9C6E-0D2D-44B0-9886-D0081084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873FA-37BA-4152-B459-253A68C7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6CF07-F2AF-4990-AA2E-DAA06C2C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0DF26-A870-49A5-9573-EB7A22C6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D2AB9-FA66-4D3D-920E-83086C12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1E5-BE29-44F8-8D04-9DD21977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9147E-2C8D-4ABC-B254-1E5A152A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80AF0-FF6D-4E16-96C4-BF31411A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19838-C4C9-4B31-8052-E9DCC3D7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DBF9A-0B6B-49A9-B566-27152A4D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F6051-C770-42A3-9928-16CF47D9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EA503-8323-4EA6-9A32-D37BEBBB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43DFE-1ADC-4955-A9C9-7FC7DC2C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1D926-B25F-41D1-B146-DB4142A7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A6F97-236D-483F-B9AD-AAFFB8EC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D61D1-A555-4CE4-9F94-D03866CC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9DFF-C65F-4B7D-9F87-D07D2D78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119BC-EBDA-4502-B305-25A1351B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51095-2D8F-4873-A5C5-1FDC2873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C1C5D-E9C0-405B-8865-97827B5D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068DD-7C6E-4757-9224-E4FC1EA9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7EDAE-C48B-45D6-83F5-ED6C8597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F35-3BB6-4565-8184-15F96E5A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6896-E38E-4535-A453-2915ED8A64F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92C0-6A01-425C-868E-AD5EFE2D6BF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6F37-B26A-422E-98A4-A0F19C18338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C1FB-10D2-480B-BA5B-4B835C03D24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4B39-5B25-4531-8DF6-B6525D56CA8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A545-A2D8-4D21-8DDF-17E81FF3333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3633-72A3-44F0-A4E5-45F58196055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" descr="http://isurvived.org/Pictures_iSurvived-5/auschwitz-birkenau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12"/>
          <p:cNvSpPr/>
          <p:nvPr/>
        </p:nvSpPr>
        <p:spPr>
          <a:xfrm>
            <a:off x="2743200" y="48006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Opening gates to Auschwit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2362320" y="304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 Concentration Camp Gu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0" y="565776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ylor Kitt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 Harm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n Gil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Bl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1" descr="http://uczyc-sie-z-historii.pl/user/photo/Projekty/Kop%20tam%20gdzie%20stoisz/mw-camps1944.JPG"/>
          <p:cNvPicPr/>
          <p:nvPr/>
        </p:nvPicPr>
        <p:blipFill>
          <a:blip r:embed="rId1"/>
          <a:stretch/>
        </p:blipFill>
        <p:spPr>
          <a:xfrm>
            <a:off x="5181480" y="5029200"/>
            <a:ext cx="2548080" cy="1371600"/>
          </a:xfrm>
          <a:prstGeom prst="rect">
            <a:avLst/>
          </a:prstGeom>
          <a:ln w="0">
            <a:noFill/>
          </a:ln>
        </p:spPr>
      </p:pic>
      <p:sp>
        <p:nvSpPr>
          <p:cNvPr id="308" name="TextBox 6"/>
          <p:cNvSpPr/>
          <p:nvPr/>
        </p:nvSpPr>
        <p:spPr>
          <a:xfrm>
            <a:off x="4952880" y="5638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http://upload.wikimedia.org/wikipedia/commons/7/7e/Second_world_war_europe_1941-1942_map_e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TextBox 5"/>
          <p:cNvSpPr/>
          <p:nvPr/>
        </p:nvSpPr>
        <p:spPr>
          <a:xfrm>
            <a:off x="0" y="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Blue shows the German adv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http://www.mapsorama.com/maps/europe/Holocaust-Europe.jpg"/>
          <p:cNvPicPr/>
          <p:nvPr/>
        </p:nvPicPr>
        <p:blipFill>
          <a:blip r:embed="rId1"/>
          <a:stretch/>
        </p:blipFill>
        <p:spPr>
          <a:xfrm>
            <a:off x="0" y="0"/>
            <a:ext cx="9325080" cy="7763040"/>
          </a:xfrm>
          <a:prstGeom prst="rect">
            <a:avLst/>
          </a:prstGeom>
          <a:ln w="0">
            <a:noFill/>
          </a:ln>
        </p:spPr>
      </p:pic>
      <p:sp>
        <p:nvSpPr>
          <p:cNvPr id="312" name="Up Arrow 2"/>
          <p:cNvSpPr/>
          <p:nvPr/>
        </p:nvSpPr>
        <p:spPr>
          <a:xfrm>
            <a:off x="5410080" y="4114800"/>
            <a:ext cx="457200" cy="76212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dddddd"/>
          </a:solidFill>
          <a:ln w="478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http://newsimg.bbc.co.uk/shared/img/o.gif"/>
          <p:cNvPicPr/>
          <p:nvPr/>
        </p:nvPicPr>
        <p:blipFill>
          <a:blip r:embed="rId1"/>
          <a:stretch/>
        </p:blipFill>
        <p:spPr>
          <a:xfrm>
            <a:off x="0" y="0"/>
            <a:ext cx="19080" cy="19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http://newsimg.bbc.co.uk/nol/shared/img/v3/dot_629.gif"/>
          <p:cNvPicPr/>
          <p:nvPr/>
        </p:nvPicPr>
        <p:blipFill>
          <a:blip r:embed="rId2"/>
          <a:stretch/>
        </p:blipFill>
        <p:spPr>
          <a:xfrm>
            <a:off x="0" y="0"/>
            <a:ext cx="5991120" cy="9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http://newsimg.bbc.co.uk/nol/shared/img/v3/email.gif"/>
          <p:cNvPicPr/>
          <p:nvPr/>
        </p:nvPicPr>
        <p:blipFill>
          <a:blip r:embed="rId3"/>
          <a:stretch/>
        </p:blipFill>
        <p:spPr>
          <a:xfrm>
            <a:off x="0" y="0"/>
            <a:ext cx="162000" cy="104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http://isurvived.org/Pictures_iSurvived-4/frolic2-ss-guards.GIF"/>
          <p:cNvPicPr/>
          <p:nvPr/>
        </p:nvPicPr>
        <p:blipFill>
          <a:blip r:embed="rId4"/>
          <a:stretch/>
        </p:blipFill>
        <p:spPr>
          <a:xfrm>
            <a:off x="2971800" y="0"/>
            <a:ext cx="6172200" cy="40924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Auschwitz SS guards during a lunch break "/>
          <p:cNvPicPr/>
          <p:nvPr/>
        </p:nvPicPr>
        <p:blipFill>
          <a:blip r:embed="rId5"/>
          <a:stretch/>
        </p:blipFill>
        <p:spPr>
          <a:xfrm>
            <a:off x="0" y="4038480"/>
            <a:ext cx="5086440" cy="28195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4"/>
          <p:cNvSpPr/>
          <p:nvPr/>
        </p:nvSpPr>
        <p:spPr>
          <a:xfrm>
            <a:off x="0" y="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German officers enjoyed spending time with their girlfriends/ wives who often stayed with them at the cam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5"/>
          <p:cNvSpPr/>
          <p:nvPr/>
        </p:nvSpPr>
        <p:spPr>
          <a:xfrm>
            <a:off x="5105520" y="4038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Officers enjoying a pause in the selecting and gas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http://www.spiegel.de/img/0,1020,973119,00.jpg"/>
          <p:cNvPicPr/>
          <p:nvPr/>
        </p:nvPicPr>
        <p:blipFill>
          <a:blip r:embed="rId1"/>
          <a:stretch/>
        </p:blipFill>
        <p:spPr>
          <a:xfrm>
            <a:off x="609480" y="914400"/>
            <a:ext cx="7829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Karl Hoecker with SS physicians"/>
          <p:cNvPicPr/>
          <p:nvPr/>
        </p:nvPicPr>
        <p:blipFill>
          <a:blip r:embed="rId1"/>
          <a:stretch/>
        </p:blipFill>
        <p:spPr>
          <a:xfrm>
            <a:off x="0" y="0"/>
            <a:ext cx="6400800" cy="38098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http://www.spiegel.de/img/0,1020,973117,00.jpg"/>
          <p:cNvPicPr/>
          <p:nvPr/>
        </p:nvPicPr>
        <p:blipFill>
          <a:blip r:embed="rId2"/>
          <a:stretch/>
        </p:blipFill>
        <p:spPr>
          <a:xfrm>
            <a:off x="2819520" y="3809880"/>
            <a:ext cx="6324480" cy="30481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6"/>
          <p:cNvSpPr/>
          <p:nvPr/>
        </p:nvSpPr>
        <p:spPr>
          <a:xfrm>
            <a:off x="6477120" y="144792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Solahütte retreat was used to provide a relaxing atmosphere for SS officers working at the Nazi death camp at Auschwitz, where more than 1 million Jews were murder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http://www.spiegel.de/img/0,1020,973114,00.jpg"/>
          <p:cNvPicPr/>
          <p:nvPr/>
        </p:nvPicPr>
        <p:blipFill>
          <a:blip r:embed="rId1"/>
          <a:stretch/>
        </p:blipFill>
        <p:spPr>
          <a:xfrm>
            <a:off x="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2"/>
          <p:cNvSpPr/>
          <p:nvPr/>
        </p:nvSpPr>
        <p:spPr>
          <a:xfrm>
            <a:off x="7696080" y="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S officers singing to relieve s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6" descr="http://farm5.static.flickr.com/4056/4362792014_ec5299dbda_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0" y="14479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orbel"/>
              </a:rPr>
              <a:t>Laughing at Auschwitz</a:t>
            </a:r>
            <a:r>
              <a:rPr b="0" lang="de-DE" sz="1800" spc="-1" strike="noStrike">
                <a:solidFill>
                  <a:srgbClr val="000000"/>
                </a:solidFill>
                <a:latin typeface="Corbel"/>
              </a:rPr>
              <a:t>. Spiegel Online, 24 Sept. 07. Web. 17 Feb. 10. &lt;http://www.spiegel.de/international/0,1518,507434,00.html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28954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"File:Second world war europe 1941-1942 map en.png." 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Wikipedia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. Web. 17 Feb. 2010. &lt;http://http://en.wikipedia.org/wiki/World_War_II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3501741077_6beafcba48"/>
          <p:cNvPicPr/>
          <p:nvPr/>
        </p:nvPicPr>
        <p:blipFill>
          <a:blip r:embed="rId2"/>
          <a:stretch/>
        </p:blipFill>
        <p:spPr>
          <a:xfrm>
            <a:off x="5486400" y="3962520"/>
            <a:ext cx="3352680" cy="2333520"/>
          </a:xfrm>
          <a:prstGeom prst="rect">
            <a:avLst/>
          </a:prstGeom>
          <a:ln w="0">
            <a:noFill/>
          </a:ln>
        </p:spPr>
      </p:pic>
      <p:sp>
        <p:nvSpPr>
          <p:cNvPr id="331" name="TextBox 5"/>
          <p:cNvSpPr/>
          <p:nvPr/>
        </p:nvSpPr>
        <p:spPr>
          <a:xfrm>
            <a:off x="5410080" y="63244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5:29:17Z</dcterms:created>
  <dc:creator>Information Technology</dc:creator>
  <dc:description/>
  <dc:language>en-US</dc:language>
  <cp:lastModifiedBy>Information Technology</cp:lastModifiedBy>
  <dcterms:modified xsi:type="dcterms:W3CDTF">2010-02-18T15:52:37Z</dcterms:modified>
  <cp:revision>22</cp:revision>
  <dc:subject/>
  <dc:title>Slide 1</dc:title>
</cp:coreProperties>
</file>